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92987"/>
        <c:axId val="27164703"/>
      </c:barChart>
      <c:catAx>
        <c:axId val="88392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4703"/>
        <c:crosses val="autoZero"/>
        <c:auto val="1"/>
        <c:lblAlgn val="ctr"/>
        <c:lblOffset val="100"/>
        <c:noMultiLvlLbl val="0"/>
      </c:catAx>
      <c:valAx>
        <c:axId val="27164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2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661-AD82-4C5D-990E-4EE2F46F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4B6-7FF8-48B8-8CF6-4D97AEE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0D1-0CB5-45CE-8943-7D71F499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6B2-6E0E-42D3-B1F9-3B270DE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D57-E676-462A-9717-C7440D6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6B3-5809-405C-9FB8-4C999DA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5A3-2B21-4C17-BA73-539851B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8CE-3FD2-4BFB-9761-4E8AF54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6D2-B229-410B-BB06-A0E9098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CB5-9EAC-44EC-B20E-F3129C3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663-4ECE-41D4-BD43-AE84E48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E79-79CA-4AFB-A9D3-45F5CE79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0AE28-5E92-4307-BE9D-0ACF96CC38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