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59021"/>
        <c:axId val="88222121"/>
      </c:barChart>
      <c:catAx>
        <c:axId val="10859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2121"/>
        <c:crosses val="autoZero"/>
        <c:auto val="1"/>
        <c:lblAlgn val="ctr"/>
        <c:lblOffset val="100"/>
        <c:noMultiLvlLbl val="0"/>
      </c:catAx>
      <c:valAx>
        <c:axId val="8822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59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A7D-16F5-4CAB-819B-BECC5213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1C1-8D61-436A-A3D1-AB0CD043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125-1246-4053-946D-6679E904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72D-CE56-4E1D-988D-240EED28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681-815F-4D95-84DB-6E0203C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44B-FBD4-417D-B08C-A5ABE63E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785-A6E9-4618-B57E-92A0681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B8B-89CA-4033-92F7-4BC8EF3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405-B3E3-445C-86B4-4B514F3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B07-C4F9-4769-BAA0-CB81FED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9C2-00BB-4A72-849F-1D88BB0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A8F-D146-4D17-A4F6-9342638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B982-F715-4689-A18C-7D70B9CA6D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