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19253"/>
        <c:axId val="71709075"/>
      </c:barChart>
      <c:catAx>
        <c:axId val="89219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09075"/>
        <c:crosses val="autoZero"/>
        <c:auto val="1"/>
        <c:lblAlgn val="ctr"/>
        <c:lblOffset val="100"/>
        <c:noMultiLvlLbl val="0"/>
      </c:catAx>
      <c:valAx>
        <c:axId val="71709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19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E44-CC33-4C16-BD4C-4B586715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955-A68B-4574-A48A-85108BD8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52E-78B6-4D8A-BE7D-5F7A519A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2B4-C3B5-4933-B0D9-6673D97C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F17-4C42-477C-9E1A-C0A3D6A7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5EF-2FFE-4C78-A88E-636B8F4C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9FE-4408-4D63-B3AE-69245755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147-0C48-4DCB-84D5-8BC5957A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855-2235-4D3E-92F4-21F6573A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05F-704A-4B9E-AEEC-E7055084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0EA-731F-43D1-A2AD-B7233DC1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A87-AEA0-405A-975F-0FD92EDC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ED7C0-2822-493A-9D57-284705ED27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